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CF19-B0EA-4ADA-80A2-2D6CD1562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D372-62D4-492A-A95F-42681F0AF2E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BC25-5AD7-4D8F-A60A-5580B7E70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D8E9-7F14-40A3-A45D-A9D9F37F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3761-BFEE-4AD9-B310-328301772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B0A4-AE5C-4A4D-894A-10EEC679B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F79D-FAEA-4E1A-BEC1-D803DE25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9710-238F-4A7C-9C29-1E19AEA2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EBF7-8517-4D2B-A704-A38C0303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C59E-5518-4B7B-837C-318A4C05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0EA8-C4D7-4219-A5A9-25B36453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1A8F-A753-42FB-8984-214B2CC4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441E-478D-4CCF-A5C4-AB8C89F8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6BF5-2201-4F7A-9F16-931C7853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7/17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Debi Foli - Bio 316 Biology of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6302-6FA1-4880-B587-D8867C8F3B1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Renal tumors-1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80880" y="3657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7030a0"/>
                </a:solidFill>
                <a:latin typeface="Calibri"/>
              </a:rPr>
              <a:t>Dr. Abdelaty Shawky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sistant professor of path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C:\Users\ashawky\Desktop\mcst logo.jpg"/>
          <p:cNvPicPr/>
          <p:nvPr/>
        </p:nvPicPr>
        <p:blipFill>
          <a:blip r:embed="rId1"/>
          <a:stretch/>
        </p:blipFill>
        <p:spPr>
          <a:xfrm>
            <a:off x="6095880" y="557280"/>
            <a:ext cx="2629080" cy="666720"/>
          </a:xfrm>
          <a:prstGeom prst="rect">
            <a:avLst/>
          </a:prstGeom>
          <a:ln w="0">
            <a:noFill/>
          </a:ln>
        </p:spPr>
      </p:pic>
      <p:sp>
        <p:nvSpPr>
          <p:cNvPr id="51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CAE8-D35C-4909-8B0C-2090C177820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981080"/>
            <a:ext cx="2895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Renal oncocyto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3581280" y="228600"/>
            <a:ext cx="5257800" cy="6172200"/>
          </a:xfrm>
          <a:prstGeom prst="rect">
            <a:avLst/>
          </a:prstGeom>
          <a:ln w="0">
            <a:noFill/>
          </a:ln>
        </p:spPr>
      </p:pic>
      <p:sp>
        <p:nvSpPr>
          <p:cNvPr id="75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F0A1-5160-49E7-8411-532288D60A8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On microscopic examination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umor consists of large, eosinophilic cells having small nuclei that have large nucleoli. The cells are arranged in nests separated by edematous and hyalinized fibrous strom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3FB6-7EB5-4DBF-801A-351F14E9877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Renal oncocyto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24000" y="1276200"/>
            <a:ext cx="8515080" cy="5353200"/>
          </a:xfrm>
          <a:prstGeom prst="rect">
            <a:avLst/>
          </a:prstGeom>
          <a:ln w="0">
            <a:noFill/>
          </a:ln>
        </p:spPr>
      </p:pic>
      <p:sp>
        <p:nvSpPr>
          <p:cNvPr id="80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623B-AEC3-4756-A4EA-3304E288089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Renal cell carcinom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1373-6688-4F50-B8FC-F234A6D7B7A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6840" y="304920"/>
            <a:ext cx="84582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c00000"/>
                </a:solidFill>
                <a:uFillTx/>
                <a:latin typeface="Calibri"/>
              </a:rPr>
              <a:t>* Epidemiology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nal cell carcinomas represent about 1% to 3% of all visceral cancers and account for 85% of renal malignancy in adul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umors occur most often in older individuals, usually in the sixth and seventh decades of life, showing a male preponderance in the ratio of 3:1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renal cancer is sporadic, but unusual forms are a famili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C5EB-4AFC-42A3-915B-3755565FE3F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* Risk factors for RCC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garette smoking is the most significant risk fac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esity (particularly in wome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pertens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opposed estrogen therap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osure to asbestos, petroleum products, and heavy met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quired polycystic kidney disease secondary to di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6643-72E8-47EF-9E64-F3087E544F3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* Clinical presentation of RCC:</a:t>
            </a:r>
            <a:r>
              <a:rPr b="1" i="1" lang="en-US" sz="6000" spc="-1" strike="noStrike" u="sng">
                <a:solidFill>
                  <a:srgbClr val="c00000"/>
                </a:solidFill>
                <a:uFillTx/>
                <a:latin typeface="Calibri"/>
              </a:rPr>
              <a:t>	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8600" y="91440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Calibri"/>
              </a:rPr>
              <a:t>Hematur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Calibri"/>
              </a:rPr>
              <a:t>Flank pa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Calibri"/>
              </a:rPr>
              <a:t>Flank lum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s triad is seen in only 10% of cases. The most reliable of the three is hematuria, but it is usually intermittent and may be microscopic; thus, the tumor may remain silent until it attains a large siz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0512-A3B6-488D-93EB-D16F07195C5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04920" y="38052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nal cell carcinoma tends to produce a diversity of systemic symptoms not related to the kidney termed paraneoplastic syndromes, ascribed to abnormal hormone production including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olycythemi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ypercalcem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yperten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84EF-6008-4184-9F3E-ECB03A99D78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04560" y="533160"/>
            <a:ext cx="838188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patic dysfun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eminization or masculiniz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ushing syndro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eukemoid reac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myloidos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FBC3-97DC-455D-89C2-27484529DB9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04920" y="533160"/>
            <a:ext cx="86104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of the common characteristics of this tumor is it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endency to metastasize widely before giving rise to any local symptoms or sig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25% of patients with renal cell carcinoma, there is radiologic evidence of metastases at the time of present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st common locations of metastasis are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ung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more than 50%)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bon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33%), followed in order by the regional lymph nodes, liver and adrenals, and bra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1A7C-0B16-4544-895C-FD4A4ADD522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* Classification of Renal tumors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35964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I. Benign tum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tical adeno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ocyto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II. Malignant tum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nal cell carcino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ms tum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C8CD-D527-4AF5-BBE7-0C5B03EC8A0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* Classification of Renal Cell Carcinoma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Calibri"/>
              </a:rPr>
              <a:t>1. Clear cell RC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Calibri"/>
              </a:rPr>
              <a:t>2. Papillary RC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Calibri"/>
              </a:rPr>
              <a:t>3. Chromophobe RC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Calibri"/>
              </a:rPr>
              <a:t>4. Collecting duct carcino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1EF7-E753-4C2A-8722-7696AFBB01D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030a0"/>
                </a:solidFill>
                <a:latin typeface="Calibri"/>
              </a:rPr>
              <a:t>1. Clear cell RCC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the most common type, accounting for 70% to 80% of RC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Calibri"/>
              </a:rPr>
              <a:t>* Gross Patholog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itary renal cortical m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laterality and multifocality more common in familial c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ll-circumscribed, lobulated with golden-yellow cut surf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ystic change, hemorrhage, necrosis, and calcification often pres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1F7D-FF7C-4828-A1AF-BD08500F89E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  <a:ea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492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ight Arrow 1"/>
          <p:cNvSpPr/>
          <p:nvPr/>
        </p:nvSpPr>
        <p:spPr>
          <a:xfrm rot="19069800">
            <a:off x="4073040" y="365724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BE1F-C212-45D2-8122-0D5711D9434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6840" y="533160"/>
            <a:ext cx="853452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* Histopathology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sts of clear cells interspersed by delicate vascular netwo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66680" y="2346480"/>
            <a:ext cx="6419880" cy="4221000"/>
          </a:xfrm>
          <a:prstGeom prst="rect">
            <a:avLst/>
          </a:prstGeom>
          <a:ln w="0">
            <a:noFill/>
          </a:ln>
        </p:spPr>
      </p:pic>
      <p:sp>
        <p:nvSpPr>
          <p:cNvPr id="110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0E24-FA36-4142-84BF-4DC8990B4EC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Users\ashawky\Desktop\537609_532248906799119_1451101252_n.jpg"/>
          <p:cNvPicPr/>
          <p:nvPr/>
        </p:nvPicPr>
        <p:blipFill>
          <a:blip r:embed="rId1"/>
          <a:stretch/>
        </p:blipFill>
        <p:spPr>
          <a:xfrm>
            <a:off x="2819520" y="609480"/>
            <a:ext cx="6130800" cy="5029200"/>
          </a:xfrm>
          <a:prstGeom prst="rect">
            <a:avLst/>
          </a:prstGeom>
          <a:ln w="0">
            <a:noFill/>
          </a:ln>
        </p:spPr>
      </p:pic>
      <p:sp>
        <p:nvSpPr>
          <p:cNvPr id="112" name="Rounded Rectangle 3"/>
          <p:cNvSpPr/>
          <p:nvPr/>
        </p:nvSpPr>
        <p:spPr>
          <a:xfrm>
            <a:off x="152280" y="4267080"/>
            <a:ext cx="3886200" cy="19051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Robbins and Cotran’s: Pathologic Basis of Disease. Seventh ed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7914-C211-47C8-947F-B7991109E8B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04920" y="380520"/>
            <a:ext cx="853416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the exception of oncocytoma, benign tumors rarely cause clinical problem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lignant tumors, on the other hand, are of great importance clinically and deserve considerable emphasi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far the most common of these malignant tumors is renal cell carcinoma that affects adults, followed by Wilms tumor, which is found in child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76E1-2A6D-45B4-BD9C-E5F1F650D19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Renal cortical adenom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* Clinical Feature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an incidental fin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seen in patients receiving long-term hemodialysis, also more common in kidneys scarred from chronic pyelonephrit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6E37-67B3-4989-BE5E-4F8E669D1A4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6840" y="609480"/>
            <a:ext cx="83818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* Gross examination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umor is smaller than 5 m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, well-circumscribed mass with yellow to gray cut surface surrounded by compressed adjacent kidney parenchy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7A6B-C7CF-4B5F-BE73-680497DF608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28240" y="380880"/>
            <a:ext cx="84582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* Microscopic examination:</a:t>
            </a:r>
            <a:r>
              <a:rPr b="0" lang="en-US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are composed of papillomatous structures, tubules, and gland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ells are cuboidal in shape and have small central nuclei, scanty cytoplasm, and no atyp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F208-709D-49EE-A850-76481B285CC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nal adeno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077320" cy="5181480"/>
          </a:xfrm>
          <a:prstGeom prst="rect">
            <a:avLst/>
          </a:prstGeom>
          <a:ln w="0">
            <a:noFill/>
          </a:ln>
        </p:spPr>
      </p:pic>
      <p:sp>
        <p:nvSpPr>
          <p:cNvPr id="67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D8EF-8481-46FB-B346-04C19B6856E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Renal oncocytom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* Clinical Feature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cases are asymptomatic, although flank pain may be a presenting complaint; hematuria may be se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T or MRI may identif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 central sca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129A-1CB6-4C50-9E16-D5438413347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* Gross Pathology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ll-circumscribed, homogeneous cortical tum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hogany-brown cut surfa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ten shows a central, irregular fibrous sc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lateral or multicentric in 2% to 3% of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625B-BE58-4ADE-AB4B-F653E6678C8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3T20:02:23Z</dcterms:created>
  <dc:creator>Dr.Sarkar</dc:creator>
  <dc:description/>
  <dc:language>en-US</dc:language>
  <cp:lastModifiedBy>Abdulaty Shawky</cp:lastModifiedBy>
  <dcterms:modified xsi:type="dcterms:W3CDTF">2014-11-16T07:22:28Z</dcterms:modified>
  <cp:revision>187</cp:revision>
  <dc:subject/>
  <dc:title>PROGRESS IN RENAL CELL CARCINOMA</dc:title>
</cp:coreProperties>
</file>